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FBCF-94B9-4C15-9C8F-F1E98CDF4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9B2C-1FD4-466C-9FB8-DB37D937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0D53-13DC-41A7-A589-8D9CDB40E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12FA-7587-4ED6-9E39-4FDA6D47E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0F20-84D6-4B78-BE39-9D43ED08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2274-B6B1-4A4F-8231-E336B9B5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1BFD-A455-4309-A257-75F7BDE2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E9C4-9285-42F1-B00B-66CCCAF5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92BB-4576-4780-8B06-D67FF00B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4F44-AAA8-43D1-A8D8-085C0B6B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5F20-F361-4395-BCC7-EF2D7A9C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63A2-775B-4934-9DA2-F29FBF81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8806-C985-4822-89DB-AA3205007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was born on January 15, 192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953, he moves to Montgomery, AL. with his wife Coret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955, he organizes a bus boycott after Rosa Parks is arres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963, leads the March on Washington and delivers his “I Have a Dream” spee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6T18:41:36Z</dcterms:created>
  <dc:creator>344-student</dc:creator>
  <dc:description/>
  <dc:language>en-US</dc:language>
  <cp:lastModifiedBy>Deborah Williams</cp:lastModifiedBy>
  <dcterms:modified xsi:type="dcterms:W3CDTF">2013-01-17T18:20:21Z</dcterms:modified>
  <cp:revision>2</cp:revision>
  <dc:subject/>
  <dc:title>Slide 1</dc:title>
</cp:coreProperties>
</file>